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FBB-F80B-4428-8A21-8A0835F19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DED7-8A41-439A-8D23-2EF71F7E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3A7-7E41-499C-B08D-7535E033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529-4CD4-4557-B894-E83934E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5A8-6007-4F95-A995-59801564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663-09F9-45E7-92FF-E293B417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2D8D-FC18-44C5-B7F8-B4B30E00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26B0-0D4C-49A1-B30C-C4CCB44F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E2F-4804-40A0-9CE8-DB7A5A37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B9D-64C6-4A47-8B65-F068CBA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08F-76A8-4C62-AA9E-B3D2AD0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6D3-0816-408B-B303-7B60706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112-D92F-4DC3-BDB7-132BA99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119-81EC-4D89-B188-47DFA2B7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C7D9-EFF6-4F8D-83BC-7F38D0A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BEED-B627-4B10-84E6-FC1C100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D12-18AF-42FD-80E9-878B706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CEBC-89F1-4485-849C-5CA36E51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110-D43F-4A1E-A737-DCD255B7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BCB5-7B15-4E24-B4CC-B2D65D37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E1DD-1832-4D2E-AB4B-B98DB7C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45E5-E7FA-4448-8052-EBE19AD5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089A-7B02-49ED-9198-7D86634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6664-4468-404E-89B5-7EF845C6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57A-E308-4A95-A466-FCF7F3B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35D7-7C9B-4E71-8BD9-706F30C4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D689-5BB4-41DF-9313-7E6CA311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F764-3321-42EC-ACB8-5712A16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021C-977C-4DAE-A32E-EDDBB92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FB72-854A-437F-A7DB-EB3B56C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926D-5A46-4467-8E90-81B8DA9D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E498-888D-498F-B77D-26D7CFE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E9FF-19F3-4630-82BE-9C827C6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0558-D5EE-48DD-A191-361AC0A7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F039-E752-4B18-90E7-6FE5366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5AF-4D8B-4E6D-8268-60A1CCA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91D8-69A8-425A-9181-5C8EB81C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43E2-21A5-4A25-A0FF-66B0DB49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7951-FF2F-4B84-AF9F-B47000C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DEE9-94C7-481F-8E51-89C1603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2DED-8563-4337-ABE6-5AF9469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C20F-FEBC-4B15-9A30-93EC5E1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3699-82EA-4381-A2E5-2C72551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5368-3188-4C34-A225-E110BE0C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DE86-E29F-4917-AD25-5B3840E0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4FEB-43FD-4A3B-8899-D4BD1F24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9D4-E15E-4281-93E9-9B59559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CD8F-02D2-4091-AD99-D9CF629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A877-F350-4CFC-BDB7-5C41879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78E9-11CA-4C65-ABAB-0C3B4CE6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EF69-351E-48FA-AA3D-0DA8EEA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DB78-4060-46E4-A577-FD1864D2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A35C5-378D-4EBF-8F69-5E92271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21E4-1D75-4157-B21A-2BFAC4C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AA73-1C77-4E4A-A1DF-8003FFA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4309-32E7-48B5-993F-AE5F286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6E3E-47D8-43D2-ACB7-855870AB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BEE-697B-455C-B97D-847D4B5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C2105-B7A8-4BFC-8A8A-648D05A6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67E-8451-4042-B2D1-B7D10F9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428-760F-427D-916E-8E2809C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A1A-8035-4C5F-9C7E-9B65BB7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AFB-79E4-47AF-AC29-D5BA3D4F146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44C6-BC28-4897-8F12-41B1ECB49D6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7DC-1B8A-4786-A861-7B49804ADD5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CE92-6D0D-44D1-B973-ABB7261E106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4017-CF9D-44C1-B956-DA8C9B99678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5T18:17:55Z</dcterms:modified>
  <cp:revision>101</cp:revision>
  <dc:subject/>
  <dc:title>Topic 1</dc:title>
</cp:coreProperties>
</file>